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bar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29E-301C-4760-83E3-FFE4171C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C3F-7AAB-4329-9930-9269FDBD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3D6-DC99-45B3-93E6-1502ED4F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BE9-0304-4B9E-836F-C94082ED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EC5D-7920-4C58-B520-FE9E876B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77ED-E49A-4F8E-A2BD-AF8EDCF9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63CE-64BC-4DAE-8842-8EEC5068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5385-78F0-4EBF-866F-34CC8ADA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7EEB-4375-4C2F-A6A5-8BE2D656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7ABD-CCBC-41F9-A52E-9E86B5BE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9212-ADBB-45CA-818A-1FD114B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A74-B7D3-49C6-912F-C271C15C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D5F2-D145-49EB-9D8C-1CD1DA8A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6704-5499-49C7-A331-D439A55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4438-05B6-4A9B-8747-F76354CD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B2B9-8D91-497F-B755-F1E65AD1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163F-F826-411D-B9B0-4BF876E7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627-630D-4B7F-9FC0-82B01C4F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637-DBCD-4071-82DA-F518E00C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72E-F847-4C2F-AE43-3579FEDB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A47-69F0-487D-A8B6-87B132C6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999-0CAD-4DC2-B87A-2E4741D0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7DF-9D93-47B0-B0AB-5D304E5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200-33BC-4067-9AAD-83C3B09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176-4D45-4C2A-9407-8A0C81578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A246-4CDD-40CB-80D2-4D27E6D1C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azon.com/gp/reader/0399226842/ref=sib_dp_pt/002-6334525-702885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etermine if a book is nonfiction or fi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3 Library Les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2286000"/>
            <a:ext cx="5305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nfiction VS Fiction</a:t>
            </a:r>
            <a:endParaRPr b="0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How To Tell If A Book Is Nonficti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stic pi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in the book do not t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How To Tell If A Book Is Ficti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are not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inions are often used in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in the book t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Lesson 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book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Very Quiet Crick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Eric Carle (Fic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ster Bu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Lucille Recht Penner (Nonfic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a Venn Diagram on the differences in the two book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The Very Quiet Cricket</a:t>
            </a:r>
            <a:br>
              <a:rPr sz="4400"/>
            </a:b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by Eric Car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tures do not look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inions are st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ickets have feel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The Very Quiet Cricket Board Book">
            <a:hlinkClick r:id="rId1"/>
          </p:cNvPr>
          <p:cNvPicPr/>
          <p:nvPr/>
        </p:nvPicPr>
        <p:blipFill>
          <a:blip r:embed="rId2"/>
          <a:srcRect l="7543" t="37197" r="0" b="13213"/>
          <a:stretch/>
        </p:blipFill>
        <p:spPr>
          <a:xfrm>
            <a:off x="6019920" y="4267080"/>
            <a:ext cx="28191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Monster Bugs</a:t>
            </a:r>
            <a:br>
              <a:rPr sz="4400"/>
            </a:b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by Lucille Recht Penn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tures look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s about many different bugs are mentio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What Do Both Books Have In Comm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books are about b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Follow Up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gzi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Dav Pilkey (Fi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Melanie Miller (Nonfi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he students do a Venn Diagram on the boo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1700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6:50:27Z</dcterms:created>
  <dc:creator>scs</dc:creator>
  <dc:description/>
  <dc:language>en-US</dc:language>
  <cp:lastModifiedBy>scs</cp:lastModifiedBy>
  <dcterms:modified xsi:type="dcterms:W3CDTF">2007-05-29T18:52:24Z</dcterms:modified>
  <cp:revision>6</cp:revision>
  <dc:subject/>
  <dc:title>Slide 1</dc:title>
</cp:coreProperties>
</file>